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698A-6F69-4B41-9B6E-797A3F1A281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C024-2DCC-40E6-AF76-61D7523B6007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9AFD-4274-40C9-A88D-B04F53F765E2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24A3-382E-4278-99F3-D992FBFC9214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1B91-A0FF-4E08-B120-2101FD1EA65A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D677-7F7F-4466-9E88-1A527226DB62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CF2-28B6-48B0-A14D-64C26544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91F-B5E5-4D47-9682-AEE8B359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FBE25-4B49-4169-B3C6-E1FC4C64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B3825-A4F7-4FA0-9BEB-C520FD72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EFF22-5783-412D-ACB8-76DDC31E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8EE52-2FB0-4A91-A1D3-B63B6D79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C810D-4318-47C4-9C89-C3D35C0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7A119-DC3E-471D-A19C-1FC744E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34B28-5A1F-4AF7-AFB2-9A1650CE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5857F-C4C7-4469-940D-1A5BA0DD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63054-D9D5-4EDF-B4A0-A4A6AF69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75F80-89D6-40EA-A1A2-C711A340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9E3-B764-40C6-8CF5-68F02A9E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36F14-D917-496C-8DBB-BB40E3AB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DFBAF-76C4-42C5-A150-10A3A222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02B5A-B699-42C7-BD92-33123A18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146A5-427C-49E3-87F4-055B2918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40164-0652-4E72-9058-02D02308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CDEB4-C915-46A0-8980-E729D036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495D7-F4C8-4CC7-819D-F0278E2C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B9EBB-2EBB-4712-AEE6-BC5C4D58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40046-0C15-4816-A372-4FBB00E1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5F5ED-C67D-48FC-8BE0-8C0EC968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716-2D1D-4432-8E1A-7F15475F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D03B0-7DCC-4F8F-AA92-20419EE2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C5E93-C697-4FD3-8FF9-E0C066B3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CF7EA-6396-432A-953E-515B7F7B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A71FA-479B-4F2E-9D40-619F44A8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6F4B9-5978-4D53-B12B-8F4A9FF2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0734F-539B-4EDA-A555-D2A44AEB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FC0F1-1AAD-427A-A975-C5491C55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EBFFB-304D-41D9-8C74-6E5019C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2B50F-67A1-44E2-A6D8-B4864867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F6FF7-93A0-4F46-A0A8-500217FF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6317-61F2-4038-A5DE-FD545497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4D7C8-B260-4031-9019-CE7FB425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65FE5-6FB5-43C2-8911-8E3B3847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D2036-5DBF-4F57-AC37-1F296941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620E0-5258-4922-B906-D73D515F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7E63B-E440-4E00-BBC7-D5AA696F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AB7B8-8C66-445C-A6D3-04A7EB14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B2248-F719-41B9-A204-988EEBE4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5AD23-B3BC-4FD0-8EF1-B4CCD010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C5280-E0DD-41EA-9A32-C9DC8827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8E6E1-1909-4059-A36E-768099B1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1AE8-AF63-462A-9A01-604D5997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D9D07-6376-4F56-9BFC-8FD7E40E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A24E4-7DE0-44FF-AEE6-E937F6F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9BBB6-F0DE-4182-82DD-E9A92B69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6E8D2-FF22-4BB8-9156-CE4D4C9E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6C9E9-B922-48DB-8D40-2F10FA13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AD8E-D40A-434F-9FDE-49AFB022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02FC-215B-46C1-9403-007C24D0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F72E-AEA7-4872-ADCE-EA2581AB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DC46-1197-4111-B56E-1726700A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131A-9A78-4076-A03C-65BB6B75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46D-0690-4034-8B0C-75413284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04CB-BE98-4F74-A864-08956F29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8F22-CC75-4990-92AC-F03E2E3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A1B9-1E18-4C2C-BFCD-21CCC7F1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73BD-6456-485E-8429-0D4C302B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7C5A-3A12-4F6F-9902-25D175CC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E576-713F-4C1D-9A2C-298BB29B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686C8-AD47-48D0-B5D6-899D7D17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2967-2EA5-44F8-885D-60157A84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D56D-AA6C-4C91-966B-03A7B593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0908-E00D-4D8D-B9C7-35FCC4BF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309-8028-4C9D-8601-7FA389CB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D8D8-85EA-41C2-9A3D-7A69178B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8459-191E-4458-8D20-ADCBDBD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3479-04C4-44CA-97B6-0CB5F048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5F516-E018-4730-B574-58BE2557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030F-735B-4510-AF57-2C7C804A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2E53-69B8-4661-9753-39ED25BA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2B4E-AE7B-453C-A371-EC406914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A841-310A-486E-A68B-2A944AB0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7207E-1877-4FDB-93B3-F656CCAC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251B1-D15D-411F-AD0C-6AF5C1BE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81F-1C78-44BA-864D-B7292445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AEAA-DB34-4617-8E75-83CE3B0F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8A50-8626-44CD-A90E-C92E6EE9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93717-B9A3-49A0-999B-F85B544E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964B-C442-4A24-B284-6B044B41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4886-D29D-4414-A94D-7BE13598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3E53-CEA5-43CF-BF25-8450426D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D0A2-45D0-443E-975B-E53D5BC7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E3F2B-A1A7-45C5-8406-67A0AD40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16DB-9D63-496B-B1B2-7981B90D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2714-6EAC-4DF3-82D6-6C98B8EE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BF1-C78B-4BA3-B5E9-E24CD42E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D0C7-5AA3-41B5-BDA5-68A20D72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B63E6-7500-4B8B-AC9F-719451B0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D8E6-70A3-46C7-ADD5-D7031F04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660FF-438B-4E87-BA51-10945F65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4ABE9-A63B-48B9-8831-52FF9E21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69A4B-3768-4D22-8728-84E8D097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5EAF-6D50-4682-B02C-DFD9D06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DA8E5-389B-402C-8474-6EC9EB5B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EAEEB-4202-4B33-A787-1AC37177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94665-744C-439B-ACE8-EF842273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C21-4216-4C3D-BC6F-48A9AA1D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D5E0-5BA6-4516-919F-7E3B1954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A894B-63BE-485A-8877-D6AD8A08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EEE9C-EF16-4473-BA22-D577474B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4CB0-E0F7-4446-A4DA-58E32EB7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82778-4ABA-4C8A-B942-2BA09D79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C3BC6-8AE0-4912-A56D-C56A92F5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AB4CA-4833-484C-B7B0-F12A6675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3AC0E-3D51-4866-B3F5-CFB5F25D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3492B-1811-4383-8BFB-CBDB01E4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990B9-0CCD-476B-8533-35DACDD4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0AF-40A4-4AD5-8115-A1A5A24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D4691-6096-4BF2-9B23-8E14B18A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D83DE-B42B-4906-9D2E-1097184B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ACFF-3ED1-4006-954C-3CE47E6A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E62CC-B2EE-4BA1-8AF4-89FF205D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95322-B515-40EA-A05A-D0EE007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42759-6292-4EC9-8B92-08510795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25431-9157-4BE7-AD89-6660C41A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D82D2-6156-4FB1-9E54-E3925D02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04188-77DC-4764-9C4D-D9A98CFD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A9030-AF1B-4576-B7B9-775E099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6A0-9A7C-44E1-AE78-1F305BB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75BFB-F98D-454A-85F8-E46365C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07CD9-3AE2-4668-ADA6-27F840D0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E86D-4041-48A0-AFB9-D0F2690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CA9AB-2256-48A9-9A7C-D3ED9DEB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71175-5D57-438C-8B04-A53C7D48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8AF11-C67B-4C3E-99C4-FB10C9F2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93551-1AD5-4A2E-8ADC-168F7A07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0EE1-BA9B-4DBC-9B34-36F12E27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5A54A-E602-4FB5-BBAB-FC456763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1E689-B20A-4F58-BF84-040BBD25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4AF-A3EE-4372-8206-2F6879F9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C5BFA-AD17-44F2-B9BD-FDDB0270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CF9DC-FF5D-4F0A-A29C-CBCCAE7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DC1AB-A6FF-49F7-9948-CE711675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18269-712E-4AD3-BD8C-8F53F8A1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A7BC6-B9FB-4D48-A278-FFA4669C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50381-E665-4CF2-9184-A4C5AE46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0117F-D0A6-424D-9A16-F05ADF76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45433-67E2-4253-BB0D-248F221C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74F80-F3C4-4D6B-8792-A016A2E6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0AD42-DC43-4EB9-A316-54427841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F7B1-38CC-449D-B7DF-DDBA60F4C7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D8DC-BED3-479F-893C-4782E6BB5B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F21E-A4B8-405A-8545-8E44978569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3CC3-B8E1-4A2E-9CF2-D3FC6F85FAD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8442-DBB7-4A99-8CFD-C424CECCF4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9C89-9445-4501-9477-A1EF7DE15A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E333-56DB-4908-A1B3-C3E9600EFC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05B7-DAD1-4B0B-B22E-1B114816C4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3281-5001-4123-81F4-D536041D74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D22A-73BA-4848-A5CB-47DB09A707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2078-B2AF-48F1-9274-45CF55C4D5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2A7C-E40C-41E0-93A9-32775E3656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downloads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2600" y="5428800"/>
            <a:ext cx="7723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RMS Expres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0" name="Textfeld 3"/>
          <p:cNvSpPr/>
          <p:nvPr/>
        </p:nvSpPr>
        <p:spPr>
          <a:xfrm>
            <a:off x="6829200" y="62866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8edf2"/>
                </a:solidFill>
                <a:latin typeface="Tahoma"/>
              </a:rPr>
              <a:t>Gert Kmet, OE3Z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Grafik 4" descr="OEVSV-WMF.wmf"/>
          <p:cNvPicPr/>
          <p:nvPr/>
        </p:nvPicPr>
        <p:blipFill>
          <a:blip r:embed="rId1"/>
          <a:stretch/>
        </p:blipFill>
        <p:spPr>
          <a:xfrm>
            <a:off x="357120" y="3500280"/>
            <a:ext cx="1082880" cy="2448000"/>
          </a:xfrm>
          <a:prstGeom prst="rect">
            <a:avLst/>
          </a:prstGeom>
          <a:ln w="0">
            <a:noFill/>
          </a:ln>
        </p:spPr>
      </p:pic>
      <p:pic>
        <p:nvPicPr>
          <p:cNvPr id="502" name="Grafik 5" descr="ARENA-WMF.wmf"/>
          <p:cNvPicPr/>
          <p:nvPr/>
        </p:nvPicPr>
        <p:blipFill>
          <a:blip r:embed="rId2"/>
          <a:stretch/>
        </p:blipFill>
        <p:spPr>
          <a:xfrm>
            <a:off x="7715160" y="3643200"/>
            <a:ext cx="97632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Betriebsart teste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5000760" y="1785960"/>
            <a:ext cx="2209680" cy="1619280"/>
          </a:xfrm>
          <a:prstGeom prst="rect">
            <a:avLst/>
          </a:prstGeom>
          <a:ln w="0">
            <a:noFill/>
          </a:ln>
        </p:spPr>
      </p:pic>
      <p:sp>
        <p:nvSpPr>
          <p:cNvPr id="525" name="Textfeld 3"/>
          <p:cNvSpPr/>
          <p:nvPr/>
        </p:nvSpPr>
        <p:spPr>
          <a:xfrm>
            <a:off x="50004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Winmor test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feil nach rechts 4"/>
          <p:cNvSpPr/>
          <p:nvPr/>
        </p:nvSpPr>
        <p:spPr>
          <a:xfrm>
            <a:off x="3714840" y="2857680"/>
            <a:ext cx="714240" cy="1886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feld 5"/>
          <p:cNvSpPr/>
          <p:nvPr/>
        </p:nvSpPr>
        <p:spPr>
          <a:xfrm>
            <a:off x="642960" y="3786120"/>
            <a:ext cx="785808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wo-Tone Modulationstes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PTT Funktion beobach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Kompressor </a:t>
            </a: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ausschal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Minimalste AL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Max. 70 % der HF-Spitzenleist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DSP Test = DSP Prozessorleist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bspeichern oder Cance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2"/>
          <a:stretch/>
        </p:blipFill>
        <p:spPr>
          <a:xfrm>
            <a:off x="5357880" y="4857840"/>
            <a:ext cx="2200320" cy="12002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3"/>
          <a:stretch/>
        </p:blipFill>
        <p:spPr>
          <a:xfrm>
            <a:off x="5429160" y="6286680"/>
            <a:ext cx="213372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Start CONNEC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531" name="Picture 7" descr=""/>
          <p:cNvPicPr/>
          <p:nvPr/>
        </p:nvPicPr>
        <p:blipFill>
          <a:blip r:embed="rId1"/>
          <a:stretch/>
        </p:blipFill>
        <p:spPr>
          <a:xfrm>
            <a:off x="2556000" y="4267080"/>
            <a:ext cx="6257880" cy="2590920"/>
          </a:xfrm>
          <a:prstGeom prst="rect">
            <a:avLst/>
          </a:prstGeom>
          <a:ln w="0">
            <a:noFill/>
          </a:ln>
        </p:spPr>
      </p:pic>
      <p:sp>
        <p:nvSpPr>
          <p:cNvPr id="532" name="Textfeld 9"/>
          <p:cNvSpPr/>
          <p:nvPr/>
        </p:nvSpPr>
        <p:spPr>
          <a:xfrm>
            <a:off x="357120" y="2000160"/>
            <a:ext cx="3286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Gegenstation auswäh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Path Quality Estimate beach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START CONN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feld 10"/>
          <p:cNvSpPr/>
          <p:nvPr/>
        </p:nvSpPr>
        <p:spPr>
          <a:xfrm>
            <a:off x="142920" y="5214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CONNECT                beobach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9" descr=""/>
          <p:cNvPicPr/>
          <p:nvPr/>
        </p:nvPicPr>
        <p:blipFill>
          <a:blip r:embed="rId2"/>
          <a:stretch/>
        </p:blipFill>
        <p:spPr>
          <a:xfrm>
            <a:off x="3924360" y="1700280"/>
            <a:ext cx="4829040" cy="2390760"/>
          </a:xfrm>
          <a:prstGeom prst="rect">
            <a:avLst/>
          </a:prstGeom>
          <a:ln w="0">
            <a:noFill/>
          </a:ln>
        </p:spPr>
      </p:pic>
      <p:cxnSp>
        <p:nvCxnSpPr>
          <p:cNvPr id="535" name="Gerade Verbindung mit Pfeil 12"/>
          <p:cNvCxnSpPr/>
          <p:nvPr/>
        </p:nvCxnSpPr>
        <p:spPr>
          <a:xfrm>
            <a:off x="2928600" y="3000240"/>
            <a:ext cx="4072680" cy="1286640"/>
          </a:xfrm>
          <a:prstGeom prst="straightConnector1">
            <a:avLst/>
          </a:prstGeom>
          <a:ln cap="sq" w="255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wipe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Winmor Soundcard TNC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3071880" y="1785960"/>
            <a:ext cx="5781600" cy="24098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"/>
          <p:cNvPicPr/>
          <p:nvPr/>
        </p:nvPicPr>
        <p:blipFill>
          <a:blip r:embed="rId2"/>
          <a:stretch/>
        </p:blipFill>
        <p:spPr>
          <a:xfrm>
            <a:off x="3071880" y="4286160"/>
            <a:ext cx="5781600" cy="2428920"/>
          </a:xfrm>
          <a:prstGeom prst="rect">
            <a:avLst/>
          </a:prstGeom>
          <a:ln w="0">
            <a:noFill/>
          </a:ln>
        </p:spPr>
      </p:pic>
      <p:sp>
        <p:nvSpPr>
          <p:cNvPr id="539" name="Textfeld 5"/>
          <p:cNvSpPr/>
          <p:nvPr/>
        </p:nvSpPr>
        <p:spPr>
          <a:xfrm>
            <a:off x="285840" y="24289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ISS = Information </a:t>
            </a: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Sending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feld 6"/>
          <p:cNvSpPr/>
          <p:nvPr/>
        </p:nvSpPr>
        <p:spPr>
          <a:xfrm>
            <a:off x="357120" y="4929120"/>
            <a:ext cx="25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IRS = Information </a:t>
            </a: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Receiving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8" descr="nochFragen"/>
          <p:cNvPicPr/>
          <p:nvPr/>
        </p:nvPicPr>
        <p:blipFill>
          <a:blip r:embed="rId1"/>
          <a:stretch/>
        </p:blipFill>
        <p:spPr>
          <a:xfrm>
            <a:off x="2428920" y="1785960"/>
            <a:ext cx="4106880" cy="40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RMS Expres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e8edf2"/>
                </a:solidFill>
                <a:latin typeface="Tahoma"/>
              </a:rPr>
              <a:t>Was ist RMS Express?</a:t>
            </a:r>
            <a:br>
              <a:rPr sz="4000"/>
            </a:br>
            <a:endParaRPr b="0" lang="en-US" sz="36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RMS Express ist eine Benutzersoftware für E-Mail Kommunikation über Fu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Peer to Peer (P2P)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o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WL2K Radio Message Server (RMS)  Verfah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Es unterstützt die Betriebsart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WINMOR (Soundkarten Protokol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Pa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Pac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Telnet via Internet oder andere IP-Netzwerke (HAMNE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Das Programm ist kostenlos (Spende erwünsch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WINMOR = kostengünstig für Newcom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Soundcard + Interfa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1571760" y="2357280"/>
            <a:ext cx="5727600" cy="313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7" name="Textfeld 4"/>
          <p:cNvSpPr/>
          <p:nvPr/>
        </p:nvSpPr>
        <p:spPr>
          <a:xfrm>
            <a:off x="500040" y="5857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USB Verbindung zum PC = kein Kabelsa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Stromversorung erfolgt via US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e8edf2"/>
                </a:solidFill>
                <a:latin typeface="Tahoma"/>
              </a:rPr>
              <a:t>Systemanforderungen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762120" y="1773000"/>
            <a:ext cx="7696080" cy="494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C-Betriebssystem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ndows X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ndows Vis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ndows 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ndows Server 2003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ndows Server 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le Betriebssysteme welche .NET 3.5 unterstütz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ndows 2000 funktioniert NICH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destvoraussetzungen Hardwar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entium &gt; 500 MHz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Tahoma"/>
              </a:rPr>
              <a:t>WINMOR benötigt &gt; Prozessorleistung + Soundkarte + Interfa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Tahoma"/>
              </a:rPr>
              <a:t>ICOM TRX IC-7200 und IC-7600 werden </a:t>
            </a:r>
            <a:r>
              <a:rPr b="1" lang="de-AT" sz="1800" spc="-1" strike="noStrike">
                <a:solidFill>
                  <a:srgbClr val="ffffff"/>
                </a:solidFill>
                <a:latin typeface="Tahoma"/>
              </a:rPr>
              <a:t>ohne Soundkarte </a:t>
            </a:r>
            <a:r>
              <a:rPr b="0" lang="de-AT" sz="1800" spc="-1" strike="noStrike">
                <a:solidFill>
                  <a:srgbClr val="ffffff"/>
                </a:solidFill>
                <a:latin typeface="Tahoma"/>
              </a:rPr>
              <a:t>mit Treibersoftware USB Audio CODEC direkt unterstütz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Tahoma"/>
              </a:rPr>
              <a:t>TRX PTT Umschaltezeiten &lt; 150ms !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Tahoma"/>
              </a:rPr>
              <a:t>Frequenzgenauigkeit &lt; +/- 100 Hz 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e8edf2"/>
                </a:solidFill>
                <a:latin typeface="Tahoma"/>
              </a:rPr>
              <a:t>RMS Express Installation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Download v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http://www.winlink.org/Client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UNZIP in ein TEMP Verzeichn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00"/>
                </a:solidFill>
                <a:latin typeface="Tahoma"/>
              </a:rPr>
              <a:t>ReadMeFirst.txt LESEN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Doppelklick auf SET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Falls eine Warnung kommt „Install NET 3.5“ so muß dieses von </a:t>
            </a:r>
            <a:r>
              <a:rPr b="0" lang="de-DE" sz="20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microsoft.com/downloads/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geholt werden (alle neuen Windows Betriebssysteme  haben NET 3.5 bereits installie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Das DEFAULT Verzeichnis C:\RMS Express wird vorgeschla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Desktop-Verknüpfung mit RMSExpress.exe  manuell herstelle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Nach Programmstart </a:t>
            </a:r>
            <a:r>
              <a:rPr b="0" lang="de-AT" sz="2400" spc="-1" strike="noStrike">
                <a:solidFill>
                  <a:srgbClr val="ffff00"/>
                </a:solidFill>
                <a:latin typeface="Tahoma"/>
              </a:rPr>
              <a:t>HILFE TEXTE LESEN 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itel 1"/>
          <p:cNvSpPr/>
          <p:nvPr/>
        </p:nvSpPr>
        <p:spPr>
          <a:xfrm>
            <a:off x="714240" y="50004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e8edf2"/>
                </a:solidFill>
                <a:latin typeface="Tahoma"/>
              </a:rPr>
              <a:t>RMS Express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120000" cy="4898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8edf2"/>
                </a:solidFill>
                <a:latin typeface="Tahoma"/>
              </a:rPr>
              <a:t>RMS Express Hauptfenster</a:t>
            </a:r>
            <a:endParaRPr b="0" lang="en-US" sz="32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351000" y="1916280"/>
            <a:ext cx="8469000" cy="446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e8edf2"/>
                </a:solidFill>
                <a:latin typeface="Tahoma"/>
              </a:rPr>
              <a:t>Betriebsarten konfigurieren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071880" y="2428920"/>
            <a:ext cx="5584680" cy="900000"/>
          </a:xfrm>
          <a:prstGeom prst="rect">
            <a:avLst/>
          </a:prstGeom>
          <a:ln w="0">
            <a:noFill/>
          </a:ln>
        </p:spPr>
      </p:pic>
      <p:sp>
        <p:nvSpPr>
          <p:cNvPr id="518" name="Textfeld 4"/>
          <p:cNvSpPr/>
          <p:nvPr/>
        </p:nvSpPr>
        <p:spPr>
          <a:xfrm>
            <a:off x="428760" y="185724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Betriebsart wählen (Winmor P2P, od. WL2K, Pactor, Packet , Tel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feld 5"/>
          <p:cNvSpPr/>
          <p:nvPr/>
        </p:nvSpPr>
        <p:spPr>
          <a:xfrm>
            <a:off x="571680" y="364320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 .  Betriebart konfigurieren und te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8474040" cy="254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e8edf2"/>
                </a:solidFill>
                <a:latin typeface="Tahoma"/>
              </a:rPr>
              <a:t>Radio/PTT/Ant. konfigurieren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795960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3:02:07Z</dcterms:created>
  <dc:creator>Gerhard Kmet</dc:creator>
  <dc:description/>
  <dc:language>en-US</dc:language>
  <cp:lastModifiedBy>Gerhard Kmet</cp:lastModifiedBy>
  <dcterms:modified xsi:type="dcterms:W3CDTF">2010-11-24T09:44:17Z</dcterms:modified>
  <cp:revision>227</cp:revision>
  <dc:subject/>
  <dc:title>Airmail2000 </dc:title>
</cp:coreProperties>
</file>