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6.png" ContentType="image/pn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6.gif" ContentType="image/gif"/>
  <Override PartName="/ppt/media/image10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3F4E-18AE-4D26-BCC3-6CC41E9B62B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E00E-8899-4264-946B-B8D3224C07EC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CE50-B6AC-4C25-8B6F-0275E9ACE077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E267-B098-45D7-BEAB-763363ED5B9C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A199-C9AF-4102-85D1-50AF152568E8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A526-8F66-4563-92BF-490903771F04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1298-F0A7-4344-BE87-6AEE28B28EAD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6FAD-E141-45C8-B2DD-87B5A8736456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4732-954E-40E4-9175-30E53D15B603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193-82CD-4080-A341-1F74DFC7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F5B-755B-4273-8E2C-AB9F026F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26A94-F377-4A06-80A4-B1FFBDCE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D6F3A-B81A-49E2-8F4C-926E2902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BFAF6-263E-470B-8079-84DAB8ED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55AC1-2293-461C-8E1F-3F5E0ECC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54606-3B1E-48BD-B174-10409695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A818B-EED3-4820-85CE-4EC2F3FE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216C4-6FB4-46A4-B21B-0FEC19D6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E6A28-0036-4F8D-8C00-2C3989EB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994B0-1623-49B1-8679-FE4276CF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9E63B-75A8-4AFA-8F9B-39B37353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189-F4D2-4780-BED2-B5BCBE78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C936B-BF33-46B2-8786-96404D80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B29F1-A1A3-4C16-86B2-A9F0EAA6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4C4BD-ED69-41A3-80A3-1B561BF1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3AA1D-17E9-40BE-9D78-04F9CC2F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E5C6C-0D0C-4B34-96D3-F7E04FAD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D54BA-4C57-48A9-9770-955BA50F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DEB4A-E8C8-4C31-9172-7029F0DA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AF502-2BDA-4F8F-BB20-18BE093B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CD7E4-BAB4-499C-9747-F1DA0900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30EB4-B895-48D3-B8B0-364BE212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007-853C-4150-9BFA-9922DA79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E6C4F-BA9F-43B2-BF06-CE9D5189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861C0-A1A6-4A55-81F2-852D6084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97D88-FF9D-434F-88A3-C790F57C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BD3BD-41D9-465A-8450-28578055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AD987-85E6-4F17-B099-11F0F0C2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26012-92BD-41D6-A71D-CE8334FA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11896-54BA-4DA5-8A6A-D1DAA76F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03DA1-2B1D-4291-B97B-BC4A3FF2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B1EDF-A8A0-4823-BFCC-67DAE7A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F9EAD-1546-4FDC-BFCD-E6550FCF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B26D-3494-4F72-945E-B97B5DC2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A8BAD-C585-4E46-A4E9-BF48973C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C030D-2B11-4A7F-8B81-78CB0298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724D0-FB3E-43A2-BEAC-2A8ED82C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BA29B-B6EA-43C7-9DBA-CDB6FCB7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2B071-BF5D-4153-BC65-BF11C5EF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3B81A-D22E-482A-AA08-6228BAE9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10F92-A99C-4553-9D4E-7B8A2ABF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280AF-13C5-40F0-9C84-5A227961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B0E03-EBAE-43D6-A578-AB5DDA91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515F1-EFC9-4123-AD49-A5240066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907F-8EB7-4D38-BA68-0DC0AC31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6F746-F9F5-44BC-BDC1-FB8A9C52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E2F42-99EF-4AF5-95AA-24C64469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B5492-EA29-4675-AE19-1E6E3080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4048E-349D-4BB7-ADEA-9426793D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AB80C-71DA-48EA-A535-5DA3DEDA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E937-4BA4-410D-8DFF-B32C53DC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E234-E53D-4B2A-83F0-E0A39DF8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1E3B-12C9-42AC-A9EC-31D79AB1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D8CB-A5C6-423D-BDAF-A0753D4D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7555-1597-4DC1-986F-1D2D385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4A7-20CD-472B-A2B3-21EBDAB9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EE52-171F-4B69-B654-1B8095D8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153B-1560-483E-81EF-D6121D3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0E45-9B0A-4B84-9A0C-5F0BF535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925E-C5E7-4BFF-8068-DAD2886E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C439-7578-47F5-86FE-5553594A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F5EA-82F7-4115-8A4A-208C06DF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4855-FFA7-49E9-B4A6-DB55F7C3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3F3C-D94D-44AD-B9F9-B0B0914C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9078-63B6-4BDF-BF93-BDE429AD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68B36-BD6C-4599-969D-1C834E35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F9A-E573-4483-A4BE-7CE49DE9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2FE23-601C-4C59-BF87-24067100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1FB7-EF9E-42C6-9AAF-E48BFDA4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E5ED-1C66-4D22-9004-D08AA80C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1214-6D1E-40A1-8672-7DBB8776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33822-D63A-4047-BFF2-EF2E6E3B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8A9D-BB33-4E1A-B45D-09E6E1BC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7E9A2-B85F-42F6-966C-96F04D8F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540D-7701-414C-90FB-111C0887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31F2-9309-4EDB-8ADF-6CBBDD90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1CA37-DC46-460D-82A7-0B634119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03B-E7CB-4F08-9464-C847F859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6343-93DC-4C61-99F0-A6C5F804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98E85-9733-4F09-AD22-D9978CAB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D2BF1-4241-4959-B1D6-F19C086E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97147-3568-48D7-9134-FA408E01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4766E-BB6B-4189-92D7-3A2BB71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324E4-1798-43A7-BBE8-B7A4A644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E048D-7C13-40C1-898C-22CE1205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61E57-0FD6-4FF5-838A-A6991846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A614B-B234-4340-A167-5F043773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D6196-880C-4925-A6C7-C434E6BB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E75-A246-4E64-92D5-4A80A7C4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836A6-400C-4418-8FFF-F5165E66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87A79-CBC7-40A6-9793-EAF682B4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D30D1-00EB-4CD7-8CEB-57EEF4C7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AFD49-042C-461D-9151-76FDFC68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FF3B1-CEC3-41D8-92EC-DAAD9E1B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0773-E8FE-4DF4-90C3-8F966C16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496D2-3CF0-47C0-A2D2-24B2B72E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3F754-CA8A-4A5C-9C1C-4E10B2D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9B098-8161-45F9-B135-79398C4E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DC963-81E7-4114-A68A-CD1603FC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D74-8867-4D26-A2E7-B7A2DBCA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9AB20-F6FD-4FAC-A753-2CB64F1E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20474-66D8-43F8-9177-81785EBB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67FDD-BE67-482D-804F-792D32B3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9C77-DF75-489D-A852-AA9E1B91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82B14-04DB-4E56-B458-73AEFB0D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9B4D1-522B-4256-8FE9-EBE9149B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E721B-2193-4BC8-BE81-19221A25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ECCA0-1CBE-410B-B3F5-89E643B4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6E950-D596-4209-9A07-18CE4FF3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3971D-4DF6-4C20-92DB-84C58DC4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12C-3C97-4A75-9CA2-456D9801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57510-E813-48B4-91B2-6F25FFFB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78C6D-32E8-4117-9C89-FF15558A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E37F6-3655-416D-AF47-5EF689B8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B8EA7-C0CC-4B24-9699-754BDEF1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FE6AD-8D36-4031-B762-D049303D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4C213-120C-4D4F-A1AE-48ADF7BB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6B087-2A23-4CED-8AA8-82773C0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DE55A-0959-4A7B-8573-00AFEFF8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E9436-AADC-446F-B5E2-C1E941F1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1B062-9655-4941-B0B3-00F9380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3C1-34B4-4CAA-9046-944F317E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8DD92-9C08-4263-A96F-D950CF80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2949E-5135-4CCB-B011-A6DC68FC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907A-91A9-467B-A05B-1779E151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ABC86-8819-4ED1-B653-55B5D675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E0DD9-15CC-400E-BF9E-FBF9BB21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A379A-7565-484B-BE82-BBDDAF86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4C60-A327-4CB4-BAA2-39AF9700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2A841-BB6D-4695-A0D3-208124E3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89F23-B89C-4918-91DB-0AFF4A81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55D61-60A4-44C9-B49B-76B3E9D9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262-A24D-4245-8E18-F917F418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68A31-D437-4F8D-A30C-2928E651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4320-4887-4FB4-A5DE-A58897AA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832B7-69A5-42A0-BB84-163AF3D2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F92D6-FF7C-4053-8FA1-8227E362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86130-6CE6-4C69-B173-CD3F2B45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E1109-D91F-47F8-B0AA-AFB6FE99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D1F72-4EAA-4DAD-979D-A250D137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B3C37-8AC3-46AF-AD35-55BB4AF9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0A3DA-EF51-4370-97FF-4A5469DD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7AEF0-95E5-4987-A0ED-35D8DCED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D00-746B-4E3E-BDB0-424EF3FB80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7D68-AD6D-431C-9FF0-22B1C46115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8B78-4820-4D14-AAAE-1A97683343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EA9E-5F61-45E6-BD6D-294CAC80DC3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F65A-FA4B-401F-ADAC-E9B55B03A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9DD3-F3CA-47A1-AA8D-9809DD0848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13CA-466E-4548-B6B2-4A85FECD24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3A0B-136D-4642-B79B-C9D4C85E9C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A915-C452-4635-BE9E-BD50BCE48A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A3B3-3E4C-42A3-BEC6-670C0BBDBD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549B-EB47-4B45-A53B-3273949F5D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4184-CC2A-4ED7-B7BC-3982BE795A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inlink.org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6.gi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2600" y="5428800"/>
            <a:ext cx="7723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Winlink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00" name="Textfeld 3"/>
          <p:cNvSpPr/>
          <p:nvPr/>
        </p:nvSpPr>
        <p:spPr>
          <a:xfrm>
            <a:off x="6829200" y="62866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8edf2"/>
                </a:solidFill>
                <a:latin typeface="Tahoma"/>
              </a:rPr>
              <a:t>Gert Kmet, OE3Z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Grafik 4" descr="OEVSV-WMF.wmf"/>
          <p:cNvPicPr/>
          <p:nvPr/>
        </p:nvPicPr>
        <p:blipFill>
          <a:blip r:embed="rId1"/>
          <a:stretch/>
        </p:blipFill>
        <p:spPr>
          <a:xfrm>
            <a:off x="357120" y="3500280"/>
            <a:ext cx="1082880" cy="2448000"/>
          </a:xfrm>
          <a:prstGeom prst="rect">
            <a:avLst/>
          </a:prstGeom>
          <a:ln w="0">
            <a:noFill/>
          </a:ln>
        </p:spPr>
      </p:pic>
      <p:pic>
        <p:nvPicPr>
          <p:cNvPr id="502" name="Grafik 5" descr="ARENA-WMF.wmf"/>
          <p:cNvPicPr/>
          <p:nvPr/>
        </p:nvPicPr>
        <p:blipFill>
          <a:blip r:embed="rId2"/>
          <a:stretch/>
        </p:blipFill>
        <p:spPr>
          <a:xfrm>
            <a:off x="7715160" y="3643200"/>
            <a:ext cx="97632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usrüstung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ypische Ausrüstung für den Nah- und Fernverkehr  (Pactor &amp; Pack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7" name="Picture 4" descr="system"/>
          <p:cNvPicPr/>
          <p:nvPr/>
        </p:nvPicPr>
        <p:blipFill>
          <a:blip r:embed="rId1"/>
          <a:stretch/>
        </p:blipFill>
        <p:spPr>
          <a:xfrm>
            <a:off x="428760" y="3214800"/>
            <a:ext cx="8229600" cy="2073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8edf2"/>
                </a:solidFill>
                <a:latin typeface="Tahoma"/>
              </a:rPr>
              <a:t>Ausrüstung</a:t>
            </a:r>
            <a:br>
              <a:rPr sz="4400"/>
            </a:br>
            <a:r>
              <a:rPr b="0" lang="de-AT" sz="3200" spc="-1" strike="noStrike">
                <a:solidFill>
                  <a:srgbClr val="e8edf2"/>
                </a:solidFill>
                <a:latin typeface="Tahoma"/>
              </a:rPr>
              <a:t>Packet</a:t>
            </a:r>
            <a:endParaRPr b="0" lang="en-US" sz="32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659" name="Picture 2" descr="F:\TH7.jpg"/>
          <p:cNvPicPr/>
          <p:nvPr/>
        </p:nvPicPr>
        <p:blipFill>
          <a:blip r:embed="rId1"/>
          <a:stretch/>
        </p:blipFill>
        <p:spPr>
          <a:xfrm>
            <a:off x="1442880" y="1773360"/>
            <a:ext cx="6334200" cy="475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60" name="Textfeld 4"/>
          <p:cNvSpPr/>
          <p:nvPr/>
        </p:nvSpPr>
        <p:spPr>
          <a:xfrm>
            <a:off x="5797080" y="30718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enwood TH-D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WINMOR</a:t>
            </a:r>
            <a:br>
              <a:rPr sz="4400"/>
            </a:br>
            <a:r>
              <a:rPr b="0" lang="de-DE" sz="3200" spc="-1" strike="noStrike">
                <a:solidFill>
                  <a:srgbClr val="ff0000"/>
                </a:solidFill>
                <a:latin typeface="Tahoma"/>
              </a:rPr>
              <a:t>Win</a:t>
            </a:r>
            <a:r>
              <a:rPr b="0" lang="de-DE" sz="3200" spc="-1" strike="noStrike">
                <a:solidFill>
                  <a:srgbClr val="e8edf2"/>
                </a:solidFill>
                <a:latin typeface="Tahoma"/>
              </a:rPr>
              <a:t>link </a:t>
            </a:r>
            <a:r>
              <a:rPr b="0" lang="de-DE" sz="32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de-DE" sz="3200" spc="-1" strike="noStrike">
                <a:solidFill>
                  <a:srgbClr val="e8edf2"/>
                </a:solidFill>
                <a:latin typeface="Tahoma"/>
              </a:rPr>
              <a:t>essage </a:t>
            </a:r>
            <a:r>
              <a:rPr b="0" lang="de-DE" sz="3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de-DE" sz="3200" spc="-1" strike="noStrike">
                <a:solidFill>
                  <a:srgbClr val="e8edf2"/>
                </a:solidFill>
                <a:latin typeface="Tahoma"/>
              </a:rPr>
              <a:t>ver </a:t>
            </a:r>
            <a:r>
              <a:rPr b="0" lang="de-DE" sz="3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de-DE" sz="3200" spc="-1" strike="noStrike">
                <a:solidFill>
                  <a:srgbClr val="e8edf2"/>
                </a:solidFill>
                <a:latin typeface="Tahoma"/>
              </a:rPr>
              <a:t>adio</a:t>
            </a:r>
            <a:endParaRPr b="0" lang="en-US" sz="32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662" name="Picture 2" descr="C:\Dokumente und Einstellungen\Gerhard.GFK3\Desktop\WINMOR.gif"/>
          <p:cNvPicPr/>
          <p:nvPr/>
        </p:nvPicPr>
        <p:blipFill>
          <a:blip r:embed="rId1"/>
          <a:stretch/>
        </p:blipFill>
        <p:spPr>
          <a:xfrm>
            <a:off x="357120" y="2214720"/>
            <a:ext cx="8502840" cy="3439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63" name="Textfeld 4"/>
          <p:cNvSpPr/>
          <p:nvPr/>
        </p:nvSpPr>
        <p:spPr>
          <a:xfrm>
            <a:off x="3438000" y="59500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oundkartenlös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Ausrüstung</a:t>
            </a:r>
            <a:br>
              <a:rPr sz="4400"/>
            </a:b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WINMOR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Hardware: ICOM IC-7200 + Note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Software: RMS Express + USB Audio Codec Trei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Ein USB Anschluss – keine Soundkart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6" name="Grafik 4" descr="IMG_0923.JPG"/>
          <p:cNvPicPr/>
          <p:nvPr/>
        </p:nvPicPr>
        <p:blipFill>
          <a:blip r:embed="rId1"/>
          <a:stretch/>
        </p:blipFill>
        <p:spPr>
          <a:xfrm>
            <a:off x="2214720" y="3286080"/>
            <a:ext cx="450036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8edf2"/>
                </a:solidFill>
                <a:latin typeface="Tahoma"/>
              </a:rPr>
              <a:t>APRSLink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Tahoma"/>
              </a:rPr>
              <a:t>Funk E-Mail mit Handfunkgeräten über den APRSLink (Kenwood TH-D72E oder Yaesu VX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Tahoma"/>
              </a:rPr>
              <a:t>Message Forma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AT" sz="3200" spc="-1" strike="noStrike">
                <a:solidFill>
                  <a:srgbClr val="ffffff"/>
                </a:solidFill>
                <a:latin typeface="Tahoma"/>
              </a:rPr>
              <a:t>SMS WLNK-1 &lt;rufzeichen od. E-mail-Adds&gt; text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Tahoma"/>
              </a:rPr>
              <a:t>Empfänger bekommt autom. die aktuelle Position des Absenders mitgeschick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8edf2"/>
                </a:solidFill>
                <a:latin typeface="Tahoma"/>
              </a:rPr>
              <a:t>Winlink Stationen in Österreich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762120" y="1773360"/>
            <a:ext cx="769608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MS Packet  VHF/UH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OE7XLR-13  438.275  MHz  1200 b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OE7XLR-13  438.325  MHz  9600 b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OE3XAR-10  438.550  MHz  1200 b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MS Pactor  HF Kurzwe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OE3XEC       3608,5, 3617,5, 10.146,5   KHz Scanbetrie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OE4XBU     14074.9, 14110.0, 14117.9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21074.9, 21098.0, 21117.9  KHz  Scanbetrie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00"/>
                </a:solidFill>
                <a:latin typeface="Tahoma"/>
              </a:rPr>
              <a:t>OE9XRK</a:t>
            </a: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   3602,5, 3608,5</a:t>
            </a: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         KHz  Scanbetrie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00"/>
                </a:solidFill>
                <a:latin typeface="Tahoma"/>
              </a:rPr>
              <a:t>OEH79</a:t>
            </a: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       SKKM Frequenzen im 2 und 5 MHz Berei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RMS Winm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00"/>
                </a:solidFill>
                <a:latin typeface="Tahoma"/>
              </a:rPr>
              <a:t>OE5XIR-5</a:t>
            </a: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    3605,5 KH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Weitere Zugänge </a:t>
            </a:r>
            <a:r>
              <a:rPr b="0" lang="de-AT" sz="2400" spc="-1" strike="noStrike">
                <a:solidFill>
                  <a:srgbClr val="ffff00"/>
                </a:solidFill>
                <a:latin typeface="Tahoma"/>
              </a:rPr>
              <a:t>HAMNET</a:t>
            </a: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, INTERNET - Telnet</a:t>
            </a: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iste aller Winlink RMS siehe </a:t>
            </a:r>
            <a:r>
              <a:rPr b="0" lang="de-DE" sz="24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www.winlink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57280" indent="-214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6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Wien CMS</a:t>
            </a:r>
            <a:br>
              <a:rPr sz="4400"/>
            </a:br>
            <a:r>
              <a:rPr b="0" lang="de-DE" sz="3200" spc="-1" strike="noStrike">
                <a:solidFill>
                  <a:srgbClr val="e8edf2"/>
                </a:solidFill>
                <a:latin typeface="Tahoma"/>
              </a:rPr>
              <a:t>wien.winlink.org</a:t>
            </a:r>
            <a:endParaRPr b="0" lang="en-US" sz="32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672" name="Picture 2" descr=""/>
          <p:cNvPicPr/>
          <p:nvPr/>
        </p:nvPicPr>
        <p:blipFill>
          <a:blip r:embed="rId1"/>
          <a:stretch/>
        </p:blipFill>
        <p:spPr>
          <a:xfrm>
            <a:off x="285840" y="1928880"/>
            <a:ext cx="4143240" cy="3108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73" name="Picture 3" descr=""/>
          <p:cNvPicPr/>
          <p:nvPr/>
        </p:nvPicPr>
        <p:blipFill>
          <a:blip r:embed="rId2"/>
          <a:stretch/>
        </p:blipFill>
        <p:spPr>
          <a:xfrm>
            <a:off x="4714920" y="335772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8edf2"/>
                </a:solidFill>
                <a:latin typeface="Tahoma"/>
              </a:rPr>
              <a:t>Zusammenfassung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weltweit erreichbar (Kurzwelle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unterschiedliche Netzzugangsmöglichkeiten (Internet, HAMNET, (Telnet) PacketRadio, Pactor, Winmor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große Verfügbarkeit und hohe Redundanz (weltweit 5 CMS, zahlreiche unabhängige RMS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Sicherheit durch binäres Protokoll (B2F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Spamsicherheit durch Blacklist/Whitelist-System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sicheres Userlogi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RFC konformer Emailaustausch inkl. Anhäng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infache Konfiguration und Bedienun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reie Software (Airmail, Paclink, RMSExpress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kein zusätzlicher 'Lernaufwand für Enduser'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=&gt; daher bestens für die Krisentelekommunikation geeignet, um nicht verfügbare Telekom-Infrastruktur zu überbrücke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6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6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Zusammenfassung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WINLINK – E-Mail über Funk -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bietet Behörden und Organisationen einen vollwertigen E-Mail Ersatz nach Ausfall der Telekom-Infrastruktur im Krisenfa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Winlink 2000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679" name="Picture 8" descr="nochFragen"/>
          <p:cNvPicPr/>
          <p:nvPr/>
        </p:nvPicPr>
        <p:blipFill>
          <a:blip r:embed="rId1"/>
          <a:stretch/>
        </p:blipFill>
        <p:spPr>
          <a:xfrm>
            <a:off x="2428920" y="1785960"/>
            <a:ext cx="4106880" cy="402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spd="slow">
    <p:wipe dir="l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de-DE" sz="3600" spc="-1" strike="noStrike">
                <a:solidFill>
                  <a:srgbClr val="e8edf2"/>
                </a:solidFill>
                <a:latin typeface="Tahoma"/>
              </a:rPr>
              <a:t>E-Mail im Not- und Krisenfunk ?</a:t>
            </a:r>
            <a:br>
              <a:rPr sz="4000"/>
            </a:br>
            <a:endParaRPr b="0" lang="en-US" sz="36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NOTFUNK = taktisch / strategis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eschaffung, Medikamente, Personalzuordnung,  Patientenberichte 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Prämisse: Schnell, fehlerfrei und DIREKT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ilder von Schäden an bestimmten Orten übertra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Den aktuellen Standort des Notfall-Teams auf Karten darstell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69608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8edf2"/>
                </a:solidFill>
                <a:latin typeface="Tahoma"/>
              </a:rPr>
              <a:t>Winlink2000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inlink2000 (WL2K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Weltweites  Funk E-Mail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Common Message Server (CM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Radio Message Server (RM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WL2K Benutzerprogramme (Clien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Airmail2000 </a:t>
            </a:r>
            <a:r>
              <a:rPr b="0" lang="de-DE" sz="2000" spc="-1" strike="noStrike">
                <a:solidFill>
                  <a:srgbClr val="ffff00"/>
                </a:solidFill>
                <a:latin typeface="Tahoma"/>
              </a:rPr>
              <a:t>(Beta 3.4.06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00"/>
                </a:solidFill>
                <a:latin typeface="Tahoma"/>
              </a:rPr>
              <a:t>RMS Expres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acLink (lokaler WL2K Mailserv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8edf2"/>
                </a:solidFill>
                <a:latin typeface="Tahoma"/>
              </a:rPr>
              <a:t>Winlink2000</a:t>
            </a:r>
            <a:br>
              <a:rPr sz="4000"/>
            </a:br>
            <a:r>
              <a:rPr b="0" lang="de-DE" sz="4000" spc="-1" strike="noStrike">
                <a:solidFill>
                  <a:srgbClr val="e8edf2"/>
                </a:solidFill>
                <a:latin typeface="Tahoma"/>
              </a:rPr>
              <a:t>in Zahlen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WinlinkClassic seit 1985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Winlink2000 seit 1998 - ständige Modernisieru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~ 14.000 Benutz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~ 100.000 Nachrichten/Mon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trikte Einhaltung von RFC-Stand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fessionelles Netzwerkmanag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5 Common Message Server (CMS) weltwei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00"/>
                </a:solidFill>
                <a:latin typeface="Tahoma"/>
              </a:rPr>
              <a:t>CMS Wien </a:t>
            </a: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(erster  CMS in Europ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785 Radio Message Server (RMS) weltwei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185 RMS HF Stationen (Pactor, </a:t>
            </a:r>
            <a:r>
              <a:rPr b="0" lang="de-DE" sz="2000" spc="-1" strike="noStrike">
                <a:solidFill>
                  <a:srgbClr val="ffff00"/>
                </a:solidFill>
                <a:latin typeface="Tahoma"/>
              </a:rPr>
              <a:t>Winmor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600 RMS Packet Stationen (VHF/UH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Div. TCP/IP Zugänge  Internet, </a:t>
            </a:r>
            <a:r>
              <a:rPr b="0" lang="de-AT" sz="2000" spc="-1" strike="noStrike">
                <a:solidFill>
                  <a:srgbClr val="ffff00"/>
                </a:solidFill>
                <a:latin typeface="Tahoma"/>
              </a:rPr>
              <a:t>HAMNET</a:t>
            </a: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, HSMM, Tel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Winlink2000</a:t>
            </a:r>
            <a:br>
              <a:rPr sz="4400"/>
            </a:br>
            <a:r>
              <a:rPr b="0" lang="de-DE" sz="3200" spc="-1" strike="noStrike">
                <a:solidFill>
                  <a:srgbClr val="e8edf2"/>
                </a:solidFill>
                <a:latin typeface="Tahoma"/>
              </a:rPr>
              <a:t>Leistungsmerkmale</a:t>
            </a:r>
            <a:endParaRPr b="0" lang="en-US" sz="32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Wie bei herkömmlicher E-Mai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Whitelist System“ = NO SPA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Mehrfach-, Kopien- &amp; Verteileradress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Antworten, Weiterleiten - Dateianhän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Bedienung wie gewohnt (Outlook, Outlook Express etc.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ffffff"/>
                </a:solidFill>
                <a:latin typeface="Tahoma"/>
              </a:rPr>
              <a:t>Max. Nachrichtengröße 120 K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Automatische Komprimieru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AIRMAIL bietet zusätzliche Leistungsmerkmale für Fahrtensegler &amp; Expedition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Übertragungsgeschwindigkeiten  &gt; 3600 bps Pactor 3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ahoma"/>
              </a:rPr>
              <a:t>Modularität, Vielfalt und RMS Relay garantieren Ausfallsicherhei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8edf2"/>
                </a:solidFill>
                <a:latin typeface="Tahoma"/>
              </a:rPr>
              <a:t>Winlink 2000</a:t>
            </a:r>
            <a:br>
              <a:rPr sz="4400"/>
            </a:br>
            <a:r>
              <a:rPr b="0" lang="de-DE" sz="2800" spc="-1" strike="noStrike">
                <a:solidFill>
                  <a:srgbClr val="e8edf2"/>
                </a:solidFill>
                <a:latin typeface="Tahoma"/>
              </a:rPr>
              <a:t>Systemübersicht</a:t>
            </a:r>
            <a:endParaRPr b="0" lang="en-US" sz="2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2" name="Text Box 48"/>
          <p:cNvSpPr/>
          <p:nvPr/>
        </p:nvSpPr>
        <p:spPr>
          <a:xfrm>
            <a:off x="2214720" y="5286240"/>
            <a:ext cx="31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RMS-Pactor, &amp; -Pack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9" descr="MCj04041590000[1]"/>
          <p:cNvPicPr/>
          <p:nvPr/>
        </p:nvPicPr>
        <p:blipFill>
          <a:blip r:embed="rId1"/>
          <a:stretch/>
        </p:blipFill>
        <p:spPr>
          <a:xfrm>
            <a:off x="714240" y="2928960"/>
            <a:ext cx="551160" cy="5526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1" descr="MCj04041590000[1]"/>
          <p:cNvPicPr/>
          <p:nvPr/>
        </p:nvPicPr>
        <p:blipFill>
          <a:blip r:embed="rId2"/>
          <a:stretch/>
        </p:blipFill>
        <p:spPr>
          <a:xfrm>
            <a:off x="1785960" y="2928960"/>
            <a:ext cx="550800" cy="5526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3" descr="MCj04041590000[1]"/>
          <p:cNvPicPr/>
          <p:nvPr/>
        </p:nvPicPr>
        <p:blipFill>
          <a:blip r:embed="rId3"/>
          <a:stretch/>
        </p:blipFill>
        <p:spPr>
          <a:xfrm>
            <a:off x="2786040" y="2928960"/>
            <a:ext cx="550800" cy="552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3" descr="MCj04041590000[1]"/>
          <p:cNvPicPr/>
          <p:nvPr/>
        </p:nvPicPr>
        <p:blipFill>
          <a:blip r:embed="rId4"/>
          <a:stretch/>
        </p:blipFill>
        <p:spPr>
          <a:xfrm>
            <a:off x="4929120" y="2928960"/>
            <a:ext cx="550800" cy="552600"/>
          </a:xfrm>
          <a:prstGeom prst="rect">
            <a:avLst/>
          </a:prstGeom>
          <a:ln w="0">
            <a:noFill/>
          </a:ln>
        </p:spPr>
      </p:pic>
      <p:sp>
        <p:nvSpPr>
          <p:cNvPr id="517" name="Oval 17"/>
          <p:cNvSpPr/>
          <p:nvPr/>
        </p:nvSpPr>
        <p:spPr>
          <a:xfrm>
            <a:off x="399960" y="3643200"/>
            <a:ext cx="2057400" cy="762120"/>
          </a:xfrm>
          <a:prstGeom prst="ellipse">
            <a:avLst/>
          </a:prstGeom>
          <a:solidFill>
            <a:srgbClr val="d8e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18"/>
          <p:cNvSpPr/>
          <p:nvPr/>
        </p:nvSpPr>
        <p:spPr>
          <a:xfrm>
            <a:off x="2000160" y="3643200"/>
            <a:ext cx="2210040" cy="838440"/>
          </a:xfrm>
          <a:prstGeom prst="ellipse">
            <a:avLst/>
          </a:prstGeom>
          <a:solidFill>
            <a:srgbClr val="d8e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19"/>
          <p:cNvSpPr/>
          <p:nvPr/>
        </p:nvSpPr>
        <p:spPr>
          <a:xfrm>
            <a:off x="3828960" y="3643200"/>
            <a:ext cx="1914480" cy="757440"/>
          </a:xfrm>
          <a:prstGeom prst="ellipse">
            <a:avLst/>
          </a:prstGeom>
          <a:solidFill>
            <a:srgbClr val="d8e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790000" y="2357280"/>
            <a:ext cx="55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M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2"/>
          <p:cNvSpPr/>
          <p:nvPr/>
        </p:nvSpPr>
        <p:spPr>
          <a:xfrm>
            <a:off x="3860640" y="2357280"/>
            <a:ext cx="51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4714920" y="2357280"/>
            <a:ext cx="94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M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Australi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hteck 55"/>
          <p:cNvSpPr/>
          <p:nvPr/>
        </p:nvSpPr>
        <p:spPr>
          <a:xfrm>
            <a:off x="1643040" y="2143080"/>
            <a:ext cx="857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K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31"/>
          <p:cNvSpPr/>
          <p:nvPr/>
        </p:nvSpPr>
        <p:spPr>
          <a:xfrm>
            <a:off x="928800" y="34290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31"/>
          <p:cNvSpPr/>
          <p:nvPr/>
        </p:nvSpPr>
        <p:spPr>
          <a:xfrm>
            <a:off x="2000160" y="34290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31"/>
          <p:cNvSpPr/>
          <p:nvPr/>
        </p:nvSpPr>
        <p:spPr>
          <a:xfrm>
            <a:off x="3000240" y="34290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16" descr="MMj03364000000[1]"/>
          <p:cNvPicPr/>
          <p:nvPr/>
        </p:nvPicPr>
        <p:blipFill>
          <a:blip r:embed="rId5"/>
          <a:stretch/>
        </p:blipFill>
        <p:spPr>
          <a:xfrm>
            <a:off x="50004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6" descr="MMj03364000000[1]"/>
          <p:cNvPicPr/>
          <p:nvPr/>
        </p:nvPicPr>
        <p:blipFill>
          <a:blip r:embed="rId6"/>
          <a:stretch/>
        </p:blipFill>
        <p:spPr>
          <a:xfrm>
            <a:off x="1857240" y="4643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3" descr="MCj03963360000[1]"/>
          <p:cNvPicPr/>
          <p:nvPr/>
        </p:nvPicPr>
        <p:blipFill>
          <a:blip r:embed="rId7"/>
          <a:stretch/>
        </p:blipFill>
        <p:spPr>
          <a:xfrm>
            <a:off x="428760" y="5929200"/>
            <a:ext cx="547560" cy="538200"/>
          </a:xfrm>
          <a:prstGeom prst="rect">
            <a:avLst/>
          </a:prstGeom>
          <a:ln w="0">
            <a:noFill/>
          </a:ln>
        </p:spPr>
      </p:pic>
      <p:sp>
        <p:nvSpPr>
          <p:cNvPr id="530" name="Oval 51"/>
          <p:cNvSpPr/>
          <p:nvPr/>
        </p:nvSpPr>
        <p:spPr>
          <a:xfrm>
            <a:off x="2629080" y="5072040"/>
            <a:ext cx="152280" cy="152280"/>
          </a:xfrm>
          <a:prstGeom prst="ellipse">
            <a:avLst/>
          </a:prstGeom>
          <a:solidFill>
            <a:srgbClr val="cfd7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52"/>
          <p:cNvSpPr/>
          <p:nvPr/>
        </p:nvSpPr>
        <p:spPr>
          <a:xfrm>
            <a:off x="2857680" y="5072040"/>
            <a:ext cx="152280" cy="152280"/>
          </a:xfrm>
          <a:prstGeom prst="ellipse">
            <a:avLst/>
          </a:prstGeom>
          <a:solidFill>
            <a:srgbClr val="cfd7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53"/>
          <p:cNvSpPr/>
          <p:nvPr/>
        </p:nvSpPr>
        <p:spPr>
          <a:xfrm>
            <a:off x="3086280" y="5072040"/>
            <a:ext cx="152280" cy="152280"/>
          </a:xfrm>
          <a:prstGeom prst="ellipse">
            <a:avLst/>
          </a:prstGeom>
          <a:solidFill>
            <a:srgbClr val="cfd7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51"/>
          <p:cNvSpPr/>
          <p:nvPr/>
        </p:nvSpPr>
        <p:spPr>
          <a:xfrm>
            <a:off x="2914560" y="6143760"/>
            <a:ext cx="152640" cy="152280"/>
          </a:xfrm>
          <a:prstGeom prst="ellipse">
            <a:avLst/>
          </a:prstGeom>
          <a:solidFill>
            <a:srgbClr val="cfd7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52"/>
          <p:cNvSpPr/>
          <p:nvPr/>
        </p:nvSpPr>
        <p:spPr>
          <a:xfrm>
            <a:off x="3143160" y="6143760"/>
            <a:ext cx="152640" cy="152280"/>
          </a:xfrm>
          <a:prstGeom prst="ellipse">
            <a:avLst/>
          </a:prstGeom>
          <a:solidFill>
            <a:srgbClr val="cfd7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53"/>
          <p:cNvSpPr/>
          <p:nvPr/>
        </p:nvSpPr>
        <p:spPr>
          <a:xfrm>
            <a:off x="3371760" y="6143760"/>
            <a:ext cx="152640" cy="152280"/>
          </a:xfrm>
          <a:prstGeom prst="ellipse">
            <a:avLst/>
          </a:prstGeom>
          <a:solidFill>
            <a:srgbClr val="cfd7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23" descr="MCj03963360000[1]"/>
          <p:cNvPicPr/>
          <p:nvPr/>
        </p:nvPicPr>
        <p:blipFill>
          <a:blip r:embed="rId8"/>
          <a:stretch/>
        </p:blipFill>
        <p:spPr>
          <a:xfrm>
            <a:off x="1785960" y="5929200"/>
            <a:ext cx="547560" cy="5382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50"/>
          <p:cNvSpPr/>
          <p:nvPr/>
        </p:nvSpPr>
        <p:spPr>
          <a:xfrm>
            <a:off x="428760" y="5214960"/>
            <a:ext cx="17143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Verbindungen: Kurzwellenfun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VHF/UHF Fun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LAN, Telnet, We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HAMN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22" descr="MCj03002290000[1]"/>
          <p:cNvPicPr/>
          <p:nvPr/>
        </p:nvPicPr>
        <p:blipFill>
          <a:blip r:embed="rId9"/>
          <a:stretch/>
        </p:blipFill>
        <p:spPr>
          <a:xfrm>
            <a:off x="6357960" y="3500280"/>
            <a:ext cx="838080" cy="6764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7"/>
          <p:cNvSpPr/>
          <p:nvPr/>
        </p:nvSpPr>
        <p:spPr>
          <a:xfrm>
            <a:off x="7364880" y="3571920"/>
            <a:ext cx="1543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Konventionel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Email Benutz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&amp; Organisatione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1,3 Milliarden weltwe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5643720" y="235728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Common Message Server  (GESPIEGELT + LASTVERTEILUNG   - EINER  ist ausreichend für das Gesamtsyst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Oval 30"/>
          <p:cNvSpPr/>
          <p:nvPr/>
        </p:nvSpPr>
        <p:spPr>
          <a:xfrm>
            <a:off x="6429240" y="4500720"/>
            <a:ext cx="1905120" cy="76176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46"/>
          <p:cNvSpPr/>
          <p:nvPr/>
        </p:nvSpPr>
        <p:spPr>
          <a:xfrm>
            <a:off x="6572160" y="464328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ndere Amateurfunk Net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9"/>
          <p:cNvSpPr/>
          <p:nvPr/>
        </p:nvSpPr>
        <p:spPr>
          <a:xfrm>
            <a:off x="4438440" y="571500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(etwa 15.000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16" descr="MMj03364000000[1]"/>
          <p:cNvPicPr/>
          <p:nvPr/>
        </p:nvPicPr>
        <p:blipFill>
          <a:blip r:embed="rId10"/>
          <a:stretch/>
        </p:blipFill>
        <p:spPr>
          <a:xfrm>
            <a:off x="4857840" y="4643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3" descr="MCj03963360000[1]"/>
          <p:cNvPicPr/>
          <p:nvPr/>
        </p:nvPicPr>
        <p:blipFill>
          <a:blip r:embed="rId11"/>
          <a:stretch/>
        </p:blipFill>
        <p:spPr>
          <a:xfrm>
            <a:off x="4143240" y="5857920"/>
            <a:ext cx="547920" cy="538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3" descr="MCj03963360000[1]"/>
          <p:cNvPicPr/>
          <p:nvPr/>
        </p:nvPicPr>
        <p:blipFill>
          <a:blip r:embed="rId12"/>
          <a:stretch/>
        </p:blipFill>
        <p:spPr>
          <a:xfrm>
            <a:off x="5786280" y="5857920"/>
            <a:ext cx="547920" cy="538200"/>
          </a:xfrm>
          <a:prstGeom prst="rect">
            <a:avLst/>
          </a:prstGeom>
          <a:ln w="0">
            <a:noFill/>
          </a:ln>
        </p:spPr>
      </p:pic>
      <p:sp>
        <p:nvSpPr>
          <p:cNvPr id="547" name="Line 41"/>
          <p:cNvSpPr/>
          <p:nvPr/>
        </p:nvSpPr>
        <p:spPr>
          <a:xfrm flipV="1">
            <a:off x="642960" y="5214960"/>
            <a:ext cx="46080" cy="719280"/>
          </a:xfrm>
          <a:prstGeom prst="line">
            <a:avLst/>
          </a:prstGeom>
          <a:ln w="5724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41"/>
          <p:cNvSpPr/>
          <p:nvPr/>
        </p:nvSpPr>
        <p:spPr>
          <a:xfrm flipV="1">
            <a:off x="2000160" y="5214960"/>
            <a:ext cx="46080" cy="719280"/>
          </a:xfrm>
          <a:prstGeom prst="line">
            <a:avLst/>
          </a:prstGeom>
          <a:ln w="5724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41"/>
          <p:cNvSpPr/>
          <p:nvPr/>
        </p:nvSpPr>
        <p:spPr>
          <a:xfrm flipV="1">
            <a:off x="4786200" y="6143760"/>
            <a:ext cx="857520" cy="71280"/>
          </a:xfrm>
          <a:prstGeom prst="line">
            <a:avLst/>
          </a:prstGeom>
          <a:ln w="5724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41"/>
          <p:cNvSpPr/>
          <p:nvPr/>
        </p:nvSpPr>
        <p:spPr>
          <a:xfrm flipV="1">
            <a:off x="6072120" y="5072040"/>
            <a:ext cx="428760" cy="790560"/>
          </a:xfrm>
          <a:prstGeom prst="line">
            <a:avLst/>
          </a:prstGeom>
          <a:ln w="5724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41"/>
          <p:cNvSpPr/>
          <p:nvPr/>
        </p:nvSpPr>
        <p:spPr>
          <a:xfrm flipH="1" flipV="1">
            <a:off x="5500800" y="5143320"/>
            <a:ext cx="428400" cy="718920"/>
          </a:xfrm>
          <a:prstGeom prst="line">
            <a:avLst/>
          </a:prstGeom>
          <a:ln w="5724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41"/>
          <p:cNvSpPr/>
          <p:nvPr/>
        </p:nvSpPr>
        <p:spPr>
          <a:xfrm flipH="1">
            <a:off x="5500440" y="4908600"/>
            <a:ext cx="928440" cy="46080"/>
          </a:xfrm>
          <a:prstGeom prst="line">
            <a:avLst/>
          </a:prstGeom>
          <a:ln w="5724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31"/>
          <p:cNvSpPr/>
          <p:nvPr/>
        </p:nvSpPr>
        <p:spPr>
          <a:xfrm>
            <a:off x="714240" y="421488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31"/>
          <p:cNvSpPr/>
          <p:nvPr/>
        </p:nvSpPr>
        <p:spPr>
          <a:xfrm>
            <a:off x="2143080" y="4286160"/>
            <a:ext cx="0" cy="3812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31"/>
          <p:cNvSpPr/>
          <p:nvPr/>
        </p:nvSpPr>
        <p:spPr>
          <a:xfrm>
            <a:off x="5143680" y="4286160"/>
            <a:ext cx="0" cy="3812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31"/>
          <p:cNvSpPr/>
          <p:nvPr/>
        </p:nvSpPr>
        <p:spPr>
          <a:xfrm>
            <a:off x="5715000" y="4071960"/>
            <a:ext cx="857160" cy="5713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31"/>
          <p:cNvSpPr/>
          <p:nvPr/>
        </p:nvSpPr>
        <p:spPr>
          <a:xfrm flipH="1">
            <a:off x="5715000" y="3857760"/>
            <a:ext cx="714240" cy="71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feld 59"/>
          <p:cNvSpPr/>
          <p:nvPr/>
        </p:nvSpPr>
        <p:spPr>
          <a:xfrm>
            <a:off x="8149320" y="63579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© </a:t>
            </a: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OE3Z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feld 56"/>
          <p:cNvSpPr/>
          <p:nvPr/>
        </p:nvSpPr>
        <p:spPr>
          <a:xfrm>
            <a:off x="2296800" y="5715000"/>
            <a:ext cx="18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Viele Funk-Benutz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1"/>
          <p:cNvSpPr/>
          <p:nvPr/>
        </p:nvSpPr>
        <p:spPr>
          <a:xfrm>
            <a:off x="5143680" y="34290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41"/>
          <p:cNvSpPr/>
          <p:nvPr/>
        </p:nvSpPr>
        <p:spPr>
          <a:xfrm>
            <a:off x="1143000" y="4929120"/>
            <a:ext cx="571680" cy="46080"/>
          </a:xfrm>
          <a:prstGeom prst="line">
            <a:avLst/>
          </a:prstGeom>
          <a:ln w="5724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feld 61"/>
          <p:cNvSpPr/>
          <p:nvPr/>
        </p:nvSpPr>
        <p:spPr>
          <a:xfrm>
            <a:off x="1071720" y="457200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RMSRel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13" descr="MCj04041590000[1]"/>
          <p:cNvPicPr/>
          <p:nvPr/>
        </p:nvPicPr>
        <p:blipFill>
          <a:blip r:embed="rId13"/>
          <a:stretch/>
        </p:blipFill>
        <p:spPr>
          <a:xfrm>
            <a:off x="3857760" y="2928960"/>
            <a:ext cx="577800" cy="579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64" name="Line 31"/>
          <p:cNvSpPr/>
          <p:nvPr/>
        </p:nvSpPr>
        <p:spPr>
          <a:xfrm>
            <a:off x="4071960" y="3500280"/>
            <a:ext cx="0" cy="3812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28760" y="2357280"/>
            <a:ext cx="107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M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Österrei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feld 63"/>
          <p:cNvSpPr/>
          <p:nvPr/>
        </p:nvSpPr>
        <p:spPr>
          <a:xfrm>
            <a:off x="2643120" y="46432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Zahlreiche 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Oval 52"/>
          <p:cNvSpPr/>
          <p:nvPr/>
        </p:nvSpPr>
        <p:spPr>
          <a:xfrm>
            <a:off x="6786720" y="6072120"/>
            <a:ext cx="152280" cy="152640"/>
          </a:xfrm>
          <a:prstGeom prst="ellipse">
            <a:avLst/>
          </a:prstGeom>
          <a:solidFill>
            <a:srgbClr val="cfd7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Oval 52"/>
          <p:cNvSpPr/>
          <p:nvPr/>
        </p:nvSpPr>
        <p:spPr>
          <a:xfrm>
            <a:off x="7000920" y="6072120"/>
            <a:ext cx="152280" cy="152640"/>
          </a:xfrm>
          <a:prstGeom prst="ellipse">
            <a:avLst/>
          </a:prstGeom>
          <a:solidFill>
            <a:srgbClr val="cfd7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52"/>
          <p:cNvSpPr/>
          <p:nvPr/>
        </p:nvSpPr>
        <p:spPr>
          <a:xfrm>
            <a:off x="7215120" y="6072120"/>
            <a:ext cx="152640" cy="152640"/>
          </a:xfrm>
          <a:prstGeom prst="ellipse">
            <a:avLst/>
          </a:prstGeom>
          <a:solidFill>
            <a:srgbClr val="cfd7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49"/>
          <p:cNvSpPr/>
          <p:nvPr/>
        </p:nvSpPr>
        <p:spPr>
          <a:xfrm>
            <a:off x="3293280" y="49291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(etwa  500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49"/>
          <p:cNvSpPr/>
          <p:nvPr/>
        </p:nvSpPr>
        <p:spPr>
          <a:xfrm>
            <a:off x="2440440" y="635796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ent SW: Airmail oder PacLin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8edf2"/>
                </a:solidFill>
                <a:latin typeface="Tahoma"/>
              </a:rPr>
              <a:t>Winlink RMS in Europ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573" name="Inhaltsplatzhalter 3" descr="RMS Stationen in EU.jpg"/>
          <p:cNvPicPr/>
          <p:nvPr/>
        </p:nvPicPr>
        <p:blipFill>
          <a:blip r:embed="rId1"/>
          <a:stretch/>
        </p:blipFill>
        <p:spPr>
          <a:xfrm>
            <a:off x="1116000" y="1598760"/>
            <a:ext cx="6840720" cy="5143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8edf2"/>
                </a:solidFill>
                <a:latin typeface="Tahoma"/>
              </a:rPr>
              <a:t>Funktionsbeispi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5564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Sechseck 4"/>
          <p:cNvSpPr/>
          <p:nvPr/>
        </p:nvSpPr>
        <p:spPr>
          <a:xfrm>
            <a:off x="3419640" y="3068640"/>
            <a:ext cx="772920" cy="698400"/>
          </a:xfrm>
          <a:prstGeom prst="hexagon">
            <a:avLst>
              <a:gd name="adj" fmla="val 19762"/>
              <a:gd name="vf" fmla="val 115470"/>
            </a:avLst>
          </a:prstGeom>
          <a:solidFill>
            <a:srgbClr val="ffffff"/>
          </a:solidFill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Sechseck 5"/>
          <p:cNvSpPr/>
          <p:nvPr/>
        </p:nvSpPr>
        <p:spPr>
          <a:xfrm>
            <a:off x="3708360" y="3284640"/>
            <a:ext cx="771480" cy="698400"/>
          </a:xfrm>
          <a:prstGeom prst="hexagon">
            <a:avLst>
              <a:gd name="adj" fmla="val 19766"/>
              <a:gd name="vf" fmla="val 115470"/>
            </a:avLst>
          </a:prstGeom>
          <a:solidFill>
            <a:srgbClr val="ffffff"/>
          </a:solidFill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Sechseck 6"/>
          <p:cNvSpPr/>
          <p:nvPr/>
        </p:nvSpPr>
        <p:spPr>
          <a:xfrm>
            <a:off x="3995640" y="3500280"/>
            <a:ext cx="773280" cy="698760"/>
          </a:xfrm>
          <a:prstGeom prst="hexagon">
            <a:avLst>
              <a:gd name="adj" fmla="val 19761"/>
              <a:gd name="vf" fmla="val 115470"/>
            </a:avLst>
          </a:prstGeom>
          <a:solidFill>
            <a:srgbClr val="ffffff"/>
          </a:solidFill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Sechseck 7"/>
          <p:cNvSpPr/>
          <p:nvPr/>
        </p:nvSpPr>
        <p:spPr>
          <a:xfrm>
            <a:off x="4356000" y="3716280"/>
            <a:ext cx="773280" cy="698400"/>
          </a:xfrm>
          <a:prstGeom prst="hexagon">
            <a:avLst>
              <a:gd name="adj" fmla="val 19771"/>
              <a:gd name="vf" fmla="val 115470"/>
            </a:avLst>
          </a:prstGeom>
          <a:solidFill>
            <a:srgbClr val="ffffff"/>
          </a:solidFill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feld 16"/>
          <p:cNvSpPr/>
          <p:nvPr/>
        </p:nvSpPr>
        <p:spPr>
          <a:xfrm>
            <a:off x="4500720" y="393372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ffff"/>
                </a:solidFill>
                <a:latin typeface="Calibri"/>
              </a:rPr>
              <a:t>C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feld 17"/>
          <p:cNvSpPr/>
          <p:nvPr/>
        </p:nvSpPr>
        <p:spPr>
          <a:xfrm>
            <a:off x="4067280" y="3716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ffff"/>
                </a:solidFill>
                <a:latin typeface="Calibri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feld 18"/>
          <p:cNvSpPr/>
          <p:nvPr/>
        </p:nvSpPr>
        <p:spPr>
          <a:xfrm>
            <a:off x="3780000" y="3500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ffff"/>
                </a:solidFill>
                <a:latin typeface="Calibri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feld 19"/>
          <p:cNvSpPr/>
          <p:nvPr/>
        </p:nvSpPr>
        <p:spPr>
          <a:xfrm>
            <a:off x="3492360" y="328464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ffff"/>
                </a:solidFill>
                <a:latin typeface="Calibri"/>
              </a:rPr>
              <a:t>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feld 20"/>
          <p:cNvSpPr/>
          <p:nvPr/>
        </p:nvSpPr>
        <p:spPr>
          <a:xfrm>
            <a:off x="5076720" y="357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feld 21"/>
          <p:cNvSpPr/>
          <p:nvPr/>
        </p:nvSpPr>
        <p:spPr>
          <a:xfrm>
            <a:off x="4716360" y="3357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Halif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feld 22"/>
          <p:cNvSpPr/>
          <p:nvPr/>
        </p:nvSpPr>
        <p:spPr>
          <a:xfrm>
            <a:off x="4427640" y="3141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Pe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feld 23"/>
          <p:cNvSpPr/>
          <p:nvPr/>
        </p:nvSpPr>
        <p:spPr>
          <a:xfrm>
            <a:off x="4067280" y="2924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San Di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feld 24"/>
          <p:cNvSpPr/>
          <p:nvPr/>
        </p:nvSpPr>
        <p:spPr>
          <a:xfrm rot="2431800">
            <a:off x="3149640" y="4029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00"/>
                </a:solidFill>
                <a:latin typeface="Calibri"/>
              </a:rPr>
              <a:t>gespieg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Bogen 17"/>
          <p:cNvSpPr/>
          <p:nvPr/>
        </p:nvSpPr>
        <p:spPr>
          <a:xfrm>
            <a:off x="4140360" y="2276640"/>
            <a:ext cx="1871640" cy="1223640"/>
          </a:xfrm>
          <a:custGeom>
            <a:avLst/>
            <a:gdLst>
              <a:gd name="textAreaLeft" fmla="*/ 936000 w 1871640"/>
              <a:gd name="textAreaRight" fmla="*/ 1872000 w 1871640"/>
              <a:gd name="textAreaTop" fmla="*/ 0 h 1223640"/>
              <a:gd name="textAreaBottom" fmla="*/ 612000 h 1223640"/>
            </a:gdLst>
            <a:ahLst/>
            <a:rect l="textAreaLeft" t="textAreaTop" r="textAreaRight" b="textAreaBottom"/>
            <a:pathLst>
              <a:path stroke="0" w="1871663" h="1223963">
                <a:moveTo>
                  <a:pt x="935832" y="0"/>
                </a:moveTo>
                <a:lnTo>
                  <a:pt x="935832" y="0"/>
                </a:lnTo>
                <a:arcTo wR="935832" hR="611982" stAng="-5399994" swAng="5400002"/>
                <a:lnTo>
                  <a:pt x="935832" y="611982"/>
                </a:lnTo>
                <a:close/>
              </a:path>
              <a:path fill="none" w="1871663" h="1223963">
                <a:moveTo>
                  <a:pt x="935832" y="0"/>
                </a:moveTo>
                <a:lnTo>
                  <a:pt x="935832" y="0"/>
                </a:lnTo>
                <a:arcTo wR="935832" hR="611982" stAng="-5399994" swAng="5400002"/>
              </a:path>
            </a:pathLst>
          </a:custGeom>
          <a:noFill/>
          <a:ln w="9360">
            <a:solidFill>
              <a:srgbClr val="d3d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Bogen 18"/>
          <p:cNvSpPr/>
          <p:nvPr/>
        </p:nvSpPr>
        <p:spPr>
          <a:xfrm>
            <a:off x="5076720" y="2852640"/>
            <a:ext cx="1871640" cy="1224000"/>
          </a:xfrm>
          <a:custGeom>
            <a:avLst/>
            <a:gdLst>
              <a:gd name="textAreaLeft" fmla="*/ 936000 w 1871640"/>
              <a:gd name="textAreaRight" fmla="*/ 1872000 w 1871640"/>
              <a:gd name="textAreaTop" fmla="*/ 0 h 1224000"/>
              <a:gd name="textAreaBottom" fmla="*/ 612000 h 1224000"/>
            </a:gdLst>
            <a:ahLst/>
            <a:rect l="textAreaLeft" t="textAreaTop" r="textAreaRight" b="textAreaBottom"/>
            <a:pathLst>
              <a:path stroke="0" w="1871663" h="1223962">
                <a:moveTo>
                  <a:pt x="935832" y="0"/>
                </a:moveTo>
                <a:lnTo>
                  <a:pt x="935832" y="0"/>
                </a:lnTo>
                <a:arcTo wR="935832" hR="611981" stAng="-5399994" swAng="5400002"/>
                <a:lnTo>
                  <a:pt x="935832" y="611981"/>
                </a:lnTo>
                <a:close/>
              </a:path>
              <a:path fill="none" w="1871663" h="1223962">
                <a:moveTo>
                  <a:pt x="935832" y="0"/>
                </a:moveTo>
                <a:lnTo>
                  <a:pt x="935832" y="0"/>
                </a:lnTo>
                <a:arcTo wR="935832" hR="611981" stAng="-5399994" swAng="5400002"/>
              </a:path>
            </a:pathLst>
          </a:custGeom>
          <a:noFill/>
          <a:ln w="9360">
            <a:solidFill>
              <a:srgbClr val="d3d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Bogen 19"/>
          <p:cNvSpPr/>
          <p:nvPr/>
        </p:nvSpPr>
        <p:spPr>
          <a:xfrm>
            <a:off x="2843280" y="1844640"/>
            <a:ext cx="2233440" cy="863640"/>
          </a:xfrm>
          <a:custGeom>
            <a:avLst/>
            <a:gdLst>
              <a:gd name="textAreaLeft" fmla="*/ 0 w 2233440"/>
              <a:gd name="textAreaRight" fmla="*/ 2233800 w 2233440"/>
              <a:gd name="textAreaTop" fmla="*/ 0 h 863640"/>
              <a:gd name="textAreaBottom" fmla="*/ 453240 h 863640"/>
            </a:gdLst>
            <a:ahLst/>
            <a:rect l="textAreaLeft" t="textAreaTop" r="textAreaRight" b="textAreaBottom"/>
            <a:pathLst>
              <a:path stroke="0" w="2233612" h="863600">
                <a:moveTo>
                  <a:pt x="1365" y="453144"/>
                </a:moveTo>
                <a:lnTo>
                  <a:pt x="1365" y="453144"/>
                </a:lnTo>
                <a:arcTo wR="1116806" hR="431800" stAng="10734227" swAng="10878453"/>
                <a:lnTo>
                  <a:pt x="1116806" y="431800"/>
                </a:lnTo>
                <a:close/>
              </a:path>
              <a:path fill="none" w="2233612" h="863600">
                <a:moveTo>
                  <a:pt x="1365" y="453144"/>
                </a:moveTo>
                <a:lnTo>
                  <a:pt x="1365" y="453144"/>
                </a:lnTo>
                <a:arcTo wR="1116806" hR="431800" stAng="10734227" swAng="10878453"/>
              </a:path>
            </a:pathLst>
          </a:custGeom>
          <a:noFill/>
          <a:ln w="9360">
            <a:solidFill>
              <a:srgbClr val="d3d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Bogen 21"/>
          <p:cNvSpPr/>
          <p:nvPr/>
        </p:nvSpPr>
        <p:spPr>
          <a:xfrm rot="19636800">
            <a:off x="1930320" y="2281320"/>
            <a:ext cx="1008000" cy="6490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9080"/>
              <a:gd name="textAreaBottom" fmla="*/ 351360 h 649080"/>
            </a:gdLst>
            <a:ahLst/>
            <a:rect l="textAreaLeft" t="textAreaTop" r="textAreaRight" b="textAreaBottom"/>
            <a:pathLst>
              <a:path stroke="0" w="1008063" h="649287">
                <a:moveTo>
                  <a:pt x="1724" y="351472"/>
                </a:moveTo>
                <a:lnTo>
                  <a:pt x="1724" y="351472"/>
                </a:lnTo>
                <a:arcTo wR="504032" hR="324644" stAng="10616566" swAng="10983441"/>
                <a:lnTo>
                  <a:pt x="504032" y="324644"/>
                </a:lnTo>
                <a:close/>
              </a:path>
              <a:path fill="none" w="1008063" h="649287">
                <a:moveTo>
                  <a:pt x="1724" y="351472"/>
                </a:moveTo>
                <a:lnTo>
                  <a:pt x="1724" y="351472"/>
                </a:lnTo>
                <a:arcTo wR="504032" hR="324644" stAng="10616566" swAng="10983441"/>
              </a:path>
            </a:pathLst>
          </a:custGeom>
          <a:noFill/>
          <a:ln w="9360">
            <a:solidFill>
              <a:srgbClr val="d3d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Bogen 22"/>
          <p:cNvSpPr/>
          <p:nvPr/>
        </p:nvSpPr>
        <p:spPr>
          <a:xfrm rot="17968800">
            <a:off x="2223000" y="2286360"/>
            <a:ext cx="1639800" cy="3336840"/>
          </a:xfrm>
          <a:custGeom>
            <a:avLst/>
            <a:gdLst>
              <a:gd name="textAreaLeft" fmla="*/ 0 w 1639800"/>
              <a:gd name="textAreaRight" fmla="*/ 1232640 w 1639800"/>
              <a:gd name="textAreaTop" fmla="*/ 0 h 3336840"/>
              <a:gd name="textAreaBottom" fmla="*/ 2689200 h 3336840"/>
            </a:gdLst>
            <a:ahLst/>
            <a:rect l="textAreaLeft" t="textAreaTop" r="textAreaRight" b="textAreaBottom"/>
            <a:pathLst>
              <a:path stroke="0" w="1639887" h="3336925">
                <a:moveTo>
                  <a:pt x="171345" y="2689194"/>
                </a:moveTo>
                <a:lnTo>
                  <a:pt x="171345" y="2689194"/>
                </a:lnTo>
                <a:arcTo wR="819944" hR="1668463" stAng="7345975" swAng="9812145"/>
                <a:lnTo>
                  <a:pt x="819944" y="1668463"/>
                </a:lnTo>
                <a:close/>
              </a:path>
              <a:path fill="none" w="1639887" h="3336925">
                <a:moveTo>
                  <a:pt x="171345" y="2689194"/>
                </a:moveTo>
                <a:lnTo>
                  <a:pt x="171345" y="2689194"/>
                </a:lnTo>
                <a:arcTo wR="819944" hR="1668463" stAng="7345975" swAng="9812145"/>
              </a:path>
            </a:pathLst>
          </a:custGeom>
          <a:noFill/>
          <a:ln w="9360">
            <a:solidFill>
              <a:srgbClr val="d3d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Bogen 23"/>
          <p:cNvSpPr/>
          <p:nvPr/>
        </p:nvSpPr>
        <p:spPr>
          <a:xfrm rot="773400">
            <a:off x="2471400" y="4242960"/>
            <a:ext cx="3529080" cy="935280"/>
          </a:xfrm>
          <a:custGeom>
            <a:avLst/>
            <a:gdLst>
              <a:gd name="textAreaLeft" fmla="*/ 1135440 w 3529080"/>
              <a:gd name="textAreaRight" fmla="*/ 3529440 w 3529080"/>
              <a:gd name="textAreaTop" fmla="*/ 259560 h 935280"/>
              <a:gd name="textAreaBottom" fmla="*/ 935640 h 935280"/>
            </a:gdLst>
            <a:ahLst/>
            <a:rect l="textAreaLeft" t="textAreaTop" r="textAreaRight" b="textAreaBottom"/>
            <a:pathLst>
              <a:path stroke="0" w="3529012" h="935037">
                <a:moveTo>
                  <a:pt x="3344688" y="259480"/>
                </a:moveTo>
                <a:lnTo>
                  <a:pt x="3344687" y="259480"/>
                </a:lnTo>
                <a:arcTo wR="1764506" hR="467519" stAng="-450008" swAng="9163684"/>
                <a:lnTo>
                  <a:pt x="1764506" y="467519"/>
                </a:lnTo>
                <a:close/>
              </a:path>
              <a:path fill="none" w="3529012" h="935037">
                <a:moveTo>
                  <a:pt x="3344688" y="259480"/>
                </a:moveTo>
                <a:lnTo>
                  <a:pt x="3344687" y="259480"/>
                </a:lnTo>
                <a:arcTo wR="1764506" hR="467519" stAng="-450008" swAng="9163684"/>
              </a:path>
            </a:pathLst>
          </a:custGeom>
          <a:noFill/>
          <a:ln w="9360">
            <a:solidFill>
              <a:srgbClr val="d3dc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feld 38"/>
          <p:cNvSpPr/>
          <p:nvPr/>
        </p:nvSpPr>
        <p:spPr>
          <a:xfrm>
            <a:off x="3492360" y="21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Kreuz 25"/>
          <p:cNvSpPr/>
          <p:nvPr/>
        </p:nvSpPr>
        <p:spPr>
          <a:xfrm>
            <a:off x="3348000" y="4941720"/>
            <a:ext cx="432000" cy="432000"/>
          </a:xfrm>
          <a:prstGeom prst="plus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feld 40"/>
          <p:cNvSpPr/>
          <p:nvPr/>
        </p:nvSpPr>
        <p:spPr>
          <a:xfrm>
            <a:off x="3348000" y="5013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Kreuz 27"/>
          <p:cNvSpPr/>
          <p:nvPr/>
        </p:nvSpPr>
        <p:spPr>
          <a:xfrm>
            <a:off x="5940360" y="2492280"/>
            <a:ext cx="432000" cy="432000"/>
          </a:xfrm>
          <a:prstGeom prst="plus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feld 44"/>
          <p:cNvSpPr/>
          <p:nvPr/>
        </p:nvSpPr>
        <p:spPr>
          <a:xfrm>
            <a:off x="5940360" y="256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Kreuz 29"/>
          <p:cNvSpPr/>
          <p:nvPr/>
        </p:nvSpPr>
        <p:spPr>
          <a:xfrm>
            <a:off x="5724360" y="4941720"/>
            <a:ext cx="432000" cy="432000"/>
          </a:xfrm>
          <a:prstGeom prst="plus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feld 46"/>
          <p:cNvSpPr/>
          <p:nvPr/>
        </p:nvSpPr>
        <p:spPr>
          <a:xfrm>
            <a:off x="5724360" y="5013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Kreuz 31"/>
          <p:cNvSpPr/>
          <p:nvPr/>
        </p:nvSpPr>
        <p:spPr>
          <a:xfrm>
            <a:off x="1619280" y="2565360"/>
            <a:ext cx="431640" cy="432000"/>
          </a:xfrm>
          <a:prstGeom prst="plus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feld 48"/>
          <p:cNvSpPr/>
          <p:nvPr/>
        </p:nvSpPr>
        <p:spPr>
          <a:xfrm>
            <a:off x="1619280" y="2637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feld 49"/>
          <p:cNvSpPr/>
          <p:nvPr/>
        </p:nvSpPr>
        <p:spPr>
          <a:xfrm>
            <a:off x="1403280" y="2205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WINM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feld 50"/>
          <p:cNvSpPr/>
          <p:nvPr/>
        </p:nvSpPr>
        <p:spPr>
          <a:xfrm>
            <a:off x="579600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feld 51"/>
          <p:cNvSpPr/>
          <p:nvPr/>
        </p:nvSpPr>
        <p:spPr>
          <a:xfrm>
            <a:off x="3203640" y="5445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AC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feld 52"/>
          <p:cNvSpPr/>
          <p:nvPr/>
        </p:nvSpPr>
        <p:spPr>
          <a:xfrm>
            <a:off x="5580000" y="5445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feld 53"/>
          <p:cNvSpPr/>
          <p:nvPr/>
        </p:nvSpPr>
        <p:spPr>
          <a:xfrm>
            <a:off x="1187280" y="19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OE5XEN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feld 54"/>
          <p:cNvSpPr/>
          <p:nvPr/>
        </p:nvSpPr>
        <p:spPr>
          <a:xfrm>
            <a:off x="1042920" y="45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OE3X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feld 55"/>
          <p:cNvSpPr/>
          <p:nvPr/>
        </p:nvSpPr>
        <p:spPr>
          <a:xfrm>
            <a:off x="5724360" y="1844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BD4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feld 56"/>
          <p:cNvSpPr/>
          <p:nvPr/>
        </p:nvSpPr>
        <p:spPr>
          <a:xfrm>
            <a:off x="558000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W1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feld 57"/>
          <p:cNvSpPr/>
          <p:nvPr/>
        </p:nvSpPr>
        <p:spPr>
          <a:xfrm>
            <a:off x="1476360" y="162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W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feld 58"/>
          <p:cNvSpPr/>
          <p:nvPr/>
        </p:nvSpPr>
        <p:spPr>
          <a:xfrm>
            <a:off x="3059280" y="587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St.Pöl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feld 59"/>
          <p:cNvSpPr/>
          <p:nvPr/>
        </p:nvSpPr>
        <p:spPr>
          <a:xfrm>
            <a:off x="5364000" y="1557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Weihai, 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feld 61"/>
          <p:cNvSpPr/>
          <p:nvPr/>
        </p:nvSpPr>
        <p:spPr>
          <a:xfrm>
            <a:off x="5219640" y="5950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Carlisle, MA, 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feld 62"/>
          <p:cNvSpPr/>
          <p:nvPr/>
        </p:nvSpPr>
        <p:spPr>
          <a:xfrm>
            <a:off x="250920" y="580536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MS = Radio Messag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feld 65"/>
          <p:cNvSpPr/>
          <p:nvPr/>
        </p:nvSpPr>
        <p:spPr>
          <a:xfrm>
            <a:off x="250920" y="558972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MS = Common Messag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Kreuz 46"/>
          <p:cNvSpPr/>
          <p:nvPr/>
        </p:nvSpPr>
        <p:spPr>
          <a:xfrm>
            <a:off x="1403280" y="3860640"/>
            <a:ext cx="492120" cy="446400"/>
          </a:xfrm>
          <a:prstGeom prst="plus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9ea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feld 40"/>
          <p:cNvSpPr/>
          <p:nvPr/>
        </p:nvSpPr>
        <p:spPr>
          <a:xfrm>
            <a:off x="1403280" y="393372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feld 52"/>
          <p:cNvSpPr/>
          <p:nvPr/>
        </p:nvSpPr>
        <p:spPr>
          <a:xfrm>
            <a:off x="1258920" y="4365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feld 50"/>
          <p:cNvSpPr/>
          <p:nvPr/>
        </p:nvSpPr>
        <p:spPr>
          <a:xfrm>
            <a:off x="3276720" y="5661000"/>
            <a:ext cx="1008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feld 52"/>
          <p:cNvSpPr/>
          <p:nvPr/>
        </p:nvSpPr>
        <p:spPr>
          <a:xfrm>
            <a:off x="2987640" y="566100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OE3XAR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feld 53"/>
          <p:cNvSpPr/>
          <p:nvPr/>
        </p:nvSpPr>
        <p:spPr>
          <a:xfrm>
            <a:off x="1042920" y="47973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ffffff"/>
                </a:solidFill>
                <a:latin typeface="Arial"/>
              </a:rPr>
              <a:t>Amstet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Ellipse 52"/>
          <p:cNvSpPr/>
          <p:nvPr/>
        </p:nvSpPr>
        <p:spPr>
          <a:xfrm>
            <a:off x="6227640" y="3429000"/>
            <a:ext cx="2160720" cy="1655640"/>
          </a:xfrm>
          <a:prstGeom prst="ellipse">
            <a:avLst/>
          </a:prstGeom>
          <a:solidFill>
            <a:srgbClr val="d8e1e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feld 38"/>
          <p:cNvSpPr/>
          <p:nvPr/>
        </p:nvSpPr>
        <p:spPr>
          <a:xfrm>
            <a:off x="6588000" y="4076640"/>
            <a:ext cx="144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HAM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alibri"/>
              </a:rPr>
              <a:t>TCP/IP - Tel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Gerade Verbindung 55"/>
          <p:cNvSpPr/>
          <p:nvPr/>
        </p:nvSpPr>
        <p:spPr>
          <a:xfrm>
            <a:off x="5129280" y="4065480"/>
            <a:ext cx="1098360" cy="11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bgerundetes Rechteck 2"/>
          <p:cNvSpPr/>
          <p:nvPr/>
        </p:nvSpPr>
        <p:spPr>
          <a:xfrm>
            <a:off x="4500720" y="6000840"/>
            <a:ext cx="4214520" cy="485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Client Benutzer Softw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bgerundetes Rechteck 4"/>
          <p:cNvSpPr/>
          <p:nvPr/>
        </p:nvSpPr>
        <p:spPr>
          <a:xfrm>
            <a:off x="4500720" y="5143680"/>
            <a:ext cx="4143240" cy="485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ac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bgerundetes Rechteck 5"/>
          <p:cNvSpPr/>
          <p:nvPr/>
        </p:nvSpPr>
        <p:spPr>
          <a:xfrm>
            <a:off x="4500720" y="4286160"/>
            <a:ext cx="4143240" cy="48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MS Pactor/Packet/Win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Abgerundetes Rechteck 6"/>
          <p:cNvSpPr/>
          <p:nvPr/>
        </p:nvSpPr>
        <p:spPr>
          <a:xfrm>
            <a:off x="4429080" y="3429000"/>
            <a:ext cx="4214880" cy="485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MS Re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Abgerundetes Rechteck 7"/>
          <p:cNvSpPr/>
          <p:nvPr/>
        </p:nvSpPr>
        <p:spPr>
          <a:xfrm>
            <a:off x="4429080" y="2571840"/>
            <a:ext cx="4214880" cy="485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C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bgerundetes Rechteck 8"/>
          <p:cNvSpPr/>
          <p:nvPr/>
        </p:nvSpPr>
        <p:spPr>
          <a:xfrm>
            <a:off x="4429080" y="1714680"/>
            <a:ext cx="4214880" cy="485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feld 9"/>
          <p:cNvSpPr/>
          <p:nvPr/>
        </p:nvSpPr>
        <p:spPr>
          <a:xfrm>
            <a:off x="1785960" y="42876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ahoma"/>
              </a:rPr>
              <a:t>WL2K Schichtenmode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hteck 10"/>
          <p:cNvSpPr/>
          <p:nvPr/>
        </p:nvSpPr>
        <p:spPr>
          <a:xfrm>
            <a:off x="357120" y="2643120"/>
            <a:ext cx="40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ommon Message Server – 5 Standorte weltwe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38"/>
          <p:cNvSpPr/>
          <p:nvPr/>
        </p:nvSpPr>
        <p:spPr>
          <a:xfrm>
            <a:off x="357120" y="178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Netzstatus, Infos, Statistik, Downlo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2"/>
          <p:cNvSpPr/>
          <p:nvPr/>
        </p:nvSpPr>
        <p:spPr>
          <a:xfrm>
            <a:off x="285840" y="3787920"/>
            <a:ext cx="392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Radio Message Server (RMS)  -  ~ 600 Standorte weltweit – RMSRelay op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285840" y="5143680"/>
            <a:ext cx="36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acLink Radio E-Mail Server  (ersetzt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Mail-Server des Internet Provid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hteck 16"/>
          <p:cNvSpPr/>
          <p:nvPr/>
        </p:nvSpPr>
        <p:spPr>
          <a:xfrm>
            <a:off x="5509440" y="564372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AN od.  Einzel-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hteck 17"/>
          <p:cNvSpPr/>
          <p:nvPr/>
        </p:nvSpPr>
        <p:spPr>
          <a:xfrm>
            <a:off x="5429160" y="478620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unk  Verbin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hteck 19"/>
          <p:cNvSpPr/>
          <p:nvPr/>
        </p:nvSpPr>
        <p:spPr>
          <a:xfrm>
            <a:off x="5931720" y="3071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hteck 21"/>
          <p:cNvSpPr/>
          <p:nvPr/>
        </p:nvSpPr>
        <p:spPr>
          <a:xfrm>
            <a:off x="5931720" y="22147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feil nach unten 22"/>
          <p:cNvSpPr/>
          <p:nvPr/>
        </p:nvSpPr>
        <p:spPr>
          <a:xfrm>
            <a:off x="4786200" y="221472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8e1e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feil nach unten 23"/>
          <p:cNvSpPr/>
          <p:nvPr/>
        </p:nvSpPr>
        <p:spPr>
          <a:xfrm>
            <a:off x="4786200" y="307188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8e1e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feil nach unten 24"/>
          <p:cNvSpPr/>
          <p:nvPr/>
        </p:nvSpPr>
        <p:spPr>
          <a:xfrm>
            <a:off x="4786200" y="3429000"/>
            <a:ext cx="484200" cy="50004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d8e1ec"/>
          </a:solidFill>
          <a:ln cap="sq"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feil nach unten 25"/>
          <p:cNvSpPr/>
          <p:nvPr/>
        </p:nvSpPr>
        <p:spPr>
          <a:xfrm>
            <a:off x="4786200" y="564372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8e1e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feil nach unten 26"/>
          <p:cNvSpPr/>
          <p:nvPr/>
        </p:nvSpPr>
        <p:spPr>
          <a:xfrm>
            <a:off x="4786200" y="4786200"/>
            <a:ext cx="48420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8e1e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feil nach oben 28"/>
          <p:cNvSpPr/>
          <p:nvPr/>
        </p:nvSpPr>
        <p:spPr>
          <a:xfrm>
            <a:off x="7929720" y="5643720"/>
            <a:ext cx="4842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8e1e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feil nach oben 29"/>
          <p:cNvSpPr/>
          <p:nvPr/>
        </p:nvSpPr>
        <p:spPr>
          <a:xfrm>
            <a:off x="7929720" y="4786200"/>
            <a:ext cx="484200" cy="357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8e1e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feil nach oben 30"/>
          <p:cNvSpPr/>
          <p:nvPr/>
        </p:nvSpPr>
        <p:spPr>
          <a:xfrm>
            <a:off x="7929720" y="3929040"/>
            <a:ext cx="4842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8e1e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feil nach oben 31"/>
          <p:cNvSpPr/>
          <p:nvPr/>
        </p:nvSpPr>
        <p:spPr>
          <a:xfrm>
            <a:off x="7929720" y="3071880"/>
            <a:ext cx="4842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8e1e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feil nach oben 32"/>
          <p:cNvSpPr/>
          <p:nvPr/>
        </p:nvSpPr>
        <p:spPr>
          <a:xfrm>
            <a:off x="7929720" y="2214720"/>
            <a:ext cx="4842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8e1e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feil nach unten 35"/>
          <p:cNvSpPr/>
          <p:nvPr/>
        </p:nvSpPr>
        <p:spPr>
          <a:xfrm>
            <a:off x="4786200" y="392904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8e1e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feil nach oben 36"/>
          <p:cNvSpPr/>
          <p:nvPr/>
        </p:nvSpPr>
        <p:spPr>
          <a:xfrm>
            <a:off x="7929720" y="3429000"/>
            <a:ext cx="484200" cy="500040"/>
          </a:xfrm>
          <a:prstGeom prst="upArrow">
            <a:avLst>
              <a:gd name="adj1" fmla="val 50000"/>
              <a:gd name="adj2" fmla="val 50043"/>
            </a:avLst>
          </a:prstGeom>
          <a:solidFill>
            <a:srgbClr val="d8e1ec"/>
          </a:solidFill>
          <a:ln cap="sq"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hteck 29"/>
          <p:cNvSpPr/>
          <p:nvPr/>
        </p:nvSpPr>
        <p:spPr>
          <a:xfrm>
            <a:off x="5436000" y="392904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unk   Verbin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3:02:07Z</dcterms:created>
  <dc:creator>Gerhard Kmet</dc:creator>
  <dc:description/>
  <dc:language>en-US</dc:language>
  <cp:lastModifiedBy>Gerhard Kmet</cp:lastModifiedBy>
  <dcterms:modified xsi:type="dcterms:W3CDTF">2011-05-12T17:09:25Z</dcterms:modified>
  <cp:revision>207</cp:revision>
  <dc:subject/>
  <dc:title>Airmail2000 </dc:title>
</cp:coreProperties>
</file>